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</p:sldIdLst>
  <p:sldSz cx="9144000" cy="6858000"/>
  <p:notesSz cx="678656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6786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dt" idx="43"/>
          </p:nvPr>
        </p:nvSpPr>
        <p:spPr>
          <a:xfrm>
            <a:off x="3843000" y="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sldImg"/>
          </p:nvPr>
        </p:nvSpPr>
        <p:spPr>
          <a:xfrm>
            <a:off x="915480" y="742680"/>
            <a:ext cx="495324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ftr" idx="44"/>
          </p:nvPr>
        </p:nvSpPr>
        <p:spPr>
          <a:xfrm>
            <a:off x="-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 type="sldNum" idx="45"/>
          </p:nvPr>
        </p:nvSpPr>
        <p:spPr>
          <a:xfrm>
            <a:off x="384300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E769-1DD4-46CB-836F-DDBB5740444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7DA9-F1DE-4E8A-8FF4-0B636A22B012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11F2-1378-4C3D-ABDA-45EB677798C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5A4-A768-4C9D-AC99-7C7AA4C3BB94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91C1-618E-49DC-AD07-E7F3F2BDE11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1334-D18F-40CA-AFFD-7F1F9625070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0A6F-7946-4FEB-A4CA-06171D18DC1A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F6A1-6142-4B0C-A25A-798AFF7BE8DE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53240" cy="37148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77520" y="4704840"/>
            <a:ext cx="542916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egnaposto numero diapositiva 3"/>
          <p:cNvSpPr/>
          <p:nvPr/>
        </p:nvSpPr>
        <p:spPr>
          <a:xfrm>
            <a:off x="3843360" y="9408960"/>
            <a:ext cx="2940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3BA5-EB3A-4E97-BCE2-12FB53F33A6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F1FD-8D77-4F33-A638-9E212B46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A36-E1D4-4CE6-9345-D57F61D7A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0DC8E-5314-4E3A-AA17-BD2597DC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E032F-CC17-439C-A284-1A7DE769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2B91D-7F1C-4F09-8B1F-690F57D6C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A9181-D482-421B-B0EE-A10B810A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BD426-9DC6-4089-98DE-590D2BB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FE4882-F3BA-464D-AD40-3E2907A5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51A56-84D2-4BCE-8513-9566E6C8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B29521-4D8B-4A30-9508-9F50528C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F2D37-5874-4E77-BEDC-DCF36E44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27097C-A829-41D0-A008-E811F8AF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0449-419B-4E26-AF5F-5FFEEE3A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B10EF3-B40A-41E8-BA0E-A3CB73DE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09F778-D193-4FE8-B325-121D69FF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8D9411-F484-4586-92EB-95A67D06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5228D-B82F-44A1-9D86-DEBCAC75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24F64-5BC1-4F74-935B-56126F6CD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9DCAD-DC4A-4483-95B5-57A72DBB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D57686-5D11-464D-AB6C-980BBDE9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07E97-E674-47E5-B2D4-D0C5664B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42B7-1636-4657-B178-7A5F38ED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31190-37AC-4E4C-8368-3AF4DF6A1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0041-0195-4C21-BBC7-FBF692CC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C4766-4A9F-4BFF-A879-5B43B74E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C3FDF-DB17-49DF-8B08-9A4258E0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CD7D-277D-4B07-9898-4F9FB68E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2E5190-2694-4E16-B69E-6CA1E9B98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C1F9E-88B9-4C97-9261-79D3B0DA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50CCC-9037-4216-B273-3FF4BF935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B57805-C3E2-483C-AA65-B9B689DD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6F905-AE8D-45B9-BC79-75CEE7B5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DA8BE-55B3-4C4D-A307-BAB6661C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C093A-5110-4F26-AC79-DBDAFB6C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82F6-A3DE-46E8-BE21-582721567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EE0C8-06AD-4A92-9EA9-9E6BDF4D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038CC-7BA5-430E-9183-8EC7E4F8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0C677-03C2-4483-B7C0-BA924C684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143826-B08A-4C2F-B931-64168CED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DB407-391B-4BA1-B265-C90BC680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ADBB-D7BA-46C6-B20D-D0BC13DE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97814-43BB-46B5-B583-C3A743A1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0F751-4D30-4374-8A12-DDD3F0D0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BB8AD-9F0E-41A9-98DB-71EC6B6D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239AFA-7D93-49B3-8319-12EE247F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E7E3-52F6-43AD-B194-F4CF6BAB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79ECD-FCFB-4051-92A4-6C81F32E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E9191-C8BE-4009-B2AB-96D5532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0AFD58-8604-4047-ACFD-C51C009D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20E55-5E76-4C30-8BCD-F49D2FAB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8FC1B-9F3C-4F61-976C-8FF15E2B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F08790-1C62-41EE-949D-15DDF77C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2A288-B767-4009-A23D-7970A263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7BFE3F-42DC-477A-A8CE-B8F2E53B0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17FC8D-EA47-4B39-AC06-BB148BA6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AE11C-1F3F-442C-AAFE-836394D7F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E8D6-5F79-4EB7-B6F6-A048E7F3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F916DC-0C14-4F63-AB03-ECD153B4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C87740-7453-4C67-8519-C482D588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E1F96-80B2-4121-ACC2-08CC252A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994255-EED3-4AB4-B263-5B578145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1D1F0-1BB7-4305-A1EC-D69773E7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F7F87C-E1CB-4EB3-83EF-6885550C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0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21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70362D-640E-43C7-AE46-18C696794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15E27B-D8DD-4793-8920-79FF979F4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A91AD2-5C73-4877-972D-EC944968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B89E2-5165-4A57-AF43-85727A22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74D5-8612-401B-9C6E-E9E25A1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968FB5-B7B5-4781-B432-93516F60A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E5B85-131C-4992-91DD-E730AD34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149D52-7E41-4C6F-99F1-A5A0D3D00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5876C4-81FC-43EF-90FE-B8EF1759C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124A79-0CDB-4FC0-B008-53906A14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9BF4EF-9121-4AAA-A6E4-78B0B4FD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2BCC8E-2EA5-451B-986B-B3036E94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2BCB1-47E1-494A-85D6-85649D7C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04C65A-4A2D-4BF6-93C1-F0E1B63C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C2ED-3C36-4CAC-8598-17FFCB60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B0D4-F267-4757-9AD2-82B7A3473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E7F1-A732-4391-BF89-E94DAC2C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203-C673-40F5-96C0-1036CCB2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5B5E-BFA0-4BA3-A412-7CB39C6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2DCB-7BD7-491E-B7C4-85DE263F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90A3-9B4D-4732-8A66-DFAC1B3B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864D-09EB-48C3-A50F-F392F125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EB84-7A11-49FD-B632-1C97343FC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C6A42-EB0F-42BE-BE6C-4C2774E8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B28EF-3D82-429E-8E81-C945ED57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27DB9-F598-4EF5-93B0-1F4D9C75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7C030-68A5-433D-91C5-C7CEB51A2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5BBF-EDFE-4914-8FDB-F094B7C4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587-6DB4-4328-AE11-1834EDE9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4D0B6-3A89-4E38-9AFE-56F0990F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DB9AC-310E-431F-AD29-A686E141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DF04-0488-4491-B59F-987D163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5AE6D-0922-4D18-BCAF-F358F6DD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6D1D8-809A-4651-B55C-4F27DD87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8D57-2E6D-4890-8045-D70BFF5E2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10521-0F36-4DEF-822B-4103DE11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4974-EF9F-4E6B-8045-27BB1022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70499-B3BF-4A17-A274-0F72239A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DA8B5-B23D-4A75-8E2B-46247494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9CE-BA2E-4281-8760-94511881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FDF9F-F3A7-4D46-8A13-571D1E69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0234-F891-4C08-8FBA-A895ABECE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066B8-5826-49B0-B688-7D8F4B0E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8E60C-EE38-4FBC-9C58-F17EC04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3951C-3A36-4272-B513-36504373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7935E-B0DB-4CD4-8017-56353C0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01026-7D44-4DBA-B388-BE3AFDE1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67909-7D9F-4E4A-8A9C-2A23CD4B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DB9B0-5C41-4D97-922C-ED1D95001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9204A-3373-4AEB-B46B-D1C56B57D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39F0-516A-4322-883A-F748F7596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3E4576-68B6-46D1-BAD4-394D99F9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8EC05-7CF5-49E7-91FA-8CC69AE4F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4D5E7-AC2F-4EFC-AC3E-9CEEFF58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6BCD-D88D-4210-AFCB-90D4BC35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6853F-C6CB-41E4-9EA7-37FA349B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77420-5385-4D34-BD55-EA37077A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D202F-762C-4E76-BB92-76AA4FD6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ED30-CAF5-4C95-B422-A467A711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78DC2-04F5-4062-8BF2-ABD94A47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2406B-020F-4FD0-A59E-D622A328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018-65BC-4941-AD8D-136F796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F4E19-6896-4EBC-A715-0143EB611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02161-1542-42A8-BBA1-103BA57B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D51F4-6F6B-40BF-A864-21289451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E2E17-0AB7-4F11-BBA0-3166C53C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EBB97-E945-4D68-A9DC-5D599E4F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F7607-81B2-4317-9761-B3D8EC3A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AEE196-3CCF-4234-A6DC-90DF0BCA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034F1-DAE3-4B6E-8688-F43C72B1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348C2-270E-49B5-83D7-4AD321B1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76819-1356-4786-BE0C-E5F0244D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79EC-290C-42B8-B9C7-36E614B7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973EF-25F0-4361-962D-A34931B5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4A7A9-AB1C-4A72-816D-C4A2169B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01432-C599-465B-AEFF-0579DF28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894DB-6D55-4775-BA67-1BBD5772E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C6C7F-FB9A-4745-AF82-504BDC82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BE362-4DEC-4944-B7E2-3B0570AD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57FD-C222-4474-9EDA-D56CFC14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FCAD5-E896-44AA-BF9A-4EADE4BA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CB3DB-B619-4BD5-B100-913FC47E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3FCE4-40A4-4964-A74E-77BFF69F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500-FC77-4F4B-A958-86C36AB0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5DBD2-445D-482C-8BB2-CDA77DF6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6A871C-8B76-494D-99BC-9F46F253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043C4-C833-4403-BCE3-72FD936E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40CF5-A79E-47B4-BCE5-1E127BB1E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10E76-0106-40DD-9F28-37D15359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CE36A-D501-4D7E-9D81-51C362D7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C1F974-EF5F-4949-A723-FB1AF2CDC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38276-B14E-415C-9436-31F30766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C230-B173-44DB-B68C-F9E5D449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123B2-650C-4423-A8DB-F96D4A96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5BA7-F5FA-4943-9706-DC93DCF9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ECD4A-F2F0-48AB-87E5-3D8DED380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BDF8B-116D-4BB3-A499-997326C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5831-BF51-4CCF-BFD0-349E5390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9A87A-62FD-4C94-A98D-ED1659D3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33DDE-6AB4-465A-83A6-9603AB5F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F0D24-7CD7-4D0A-BEC9-9BC25BF25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7773B-12F0-4BF8-850B-350B05CA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8C9A2-F4CB-4538-85A2-F58425D7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F4CBCF-F16E-47B2-BFE6-4CEFEC37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32E72-25C3-447B-9F66-9889E04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FBFF-89F8-42D2-9911-162CD254B21E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346F-C9F7-4E38-BD3F-47075BA4C42D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8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EEF-7C3D-410E-953D-C7B9DA3E146E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9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0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F78-5EAD-4C21-B9EC-7C68BF246214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480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8271-AF3A-45FA-80B3-271A283D5159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D8F2-8F11-4351-8004-F79A41F24489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528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3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74FB-FBEC-47AB-8C7B-528741F31684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3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3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EACE-5BF0-4DF6-BD2B-EB35DB579116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76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 type="dt" idx="3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8EDA-E11A-4E72-8B75-07CE02AA87A8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 type="ftr" idx="3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 type="sldNum" idx="3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2484-592B-4BDA-972A-A3888FFEDBCB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624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4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6CF86-C021-434A-964B-5140DDC7252B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ftr" idx="4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 type="sldNum" idx="4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E9ED-FC00-43D0-A947-962418346110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50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3F2B-988A-4046-A5F6-81164FF1157E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B6BD-7BDF-4C02-87A2-30878EC66FD3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98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97E9-29EF-4A65-89CB-39B2EA43DD90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296-5026-475D-97E9-4782A313386A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F91E-DE30-43B3-9A28-9C5D7612BC9D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23274-AE44-438F-BCD8-097C0D4AE1A2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93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9AD-A409-4230-B0D5-D6B8FE781BB2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6871-73CF-43ED-A25F-AF9F064CF2ED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41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E1DC-2338-49F4-B5DD-DB8AB841609E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80BE-2C0A-439A-B58C-0135BBA3E361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89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63F6-1DB6-4866-BB87-0DA43EFB8C9F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A7800-D849-4B0F-B23E-DF62F80FF4FA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337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6A09-1667-4788-BAEB-75C63C6D0C62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9315-8404-4FBD-B1A4-FB70B2562920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38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5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E686C-7340-40B2-BBD3-D7FC3BD4CEE2}" type="datetime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6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Intervento formativo  Sergio Blazina, Dirigente Tecnico-USR Piemont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7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8FDC-3F4C-41C0-B435-8184483BBE75}" type="slidenum">
              <a:rPr b="0" lang="it-IT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0.xml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E215-B246-40A3-BE81-EFA41C1FAD6A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object 5"/>
          <p:cNvGrpSpPr/>
          <p:nvPr/>
        </p:nvGrpSpPr>
        <p:grpSpPr>
          <a:xfrm>
            <a:off x="158760" y="1146240"/>
            <a:ext cx="4827600" cy="1090440"/>
            <a:chOff x="158760" y="1146240"/>
            <a:chExt cx="4827600" cy="1090440"/>
          </a:xfrm>
        </p:grpSpPr>
        <p:pic>
          <p:nvPicPr>
            <p:cNvPr id="679" name="object 5" descr=""/>
            <p:cNvPicPr/>
            <p:nvPr/>
          </p:nvPicPr>
          <p:blipFill>
            <a:blip r:embed="rId1"/>
            <a:stretch/>
          </p:blipFill>
          <p:spPr>
            <a:xfrm>
              <a:off x="158760" y="1146240"/>
              <a:ext cx="48276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0" name=""/>
            <p:cNvSpPr/>
            <p:nvPr/>
          </p:nvSpPr>
          <p:spPr>
            <a:xfrm>
              <a:off x="206280" y="1197000"/>
              <a:ext cx="4384800" cy="9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99"/>
                  </a:solidFill>
                  <a:latin typeface="Century Gothic"/>
                  <a:ea typeface="ＭＳ Ｐゴシック"/>
                </a:rPr>
                <a:t>ISTRUZIONE PROFESSION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CasellaDiTesto 1"/>
          <p:cNvSpPr/>
          <p:nvPr/>
        </p:nvSpPr>
        <p:spPr>
          <a:xfrm>
            <a:off x="163440" y="4838760"/>
            <a:ext cx="2281320" cy="1797480"/>
          </a:xfrm>
          <a:prstGeom prst="rect">
            <a:avLst/>
          </a:prstGeom>
          <a:solidFill>
            <a:srgbClr val="edf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800000"/>
                </a:solidFill>
                <a:latin typeface="Century Gothic"/>
              </a:rPr>
              <a:t>24 competenze comuni a tutti i percorsi 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di cui </a:t>
            </a: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12 declinate 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abilità e conoscenza con riferimento agli Assi Cul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ttangolo 3"/>
          <p:cNvSpPr/>
          <p:nvPr/>
        </p:nvSpPr>
        <p:spPr>
          <a:xfrm>
            <a:off x="1122840" y="1835280"/>
            <a:ext cx="255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entury Gothic"/>
              </a:rPr>
              <a:t>11 INDIRIZZ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entury Gothic"/>
              </a:rPr>
              <a:t>PROFILI UNITA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ttangolo 5"/>
          <p:cNvSpPr/>
          <p:nvPr/>
        </p:nvSpPr>
        <p:spPr>
          <a:xfrm>
            <a:off x="177840" y="2604960"/>
            <a:ext cx="4413240" cy="2040840"/>
          </a:xfrm>
          <a:prstGeom prst="rect">
            <a:avLst/>
          </a:prstGeom>
          <a:noFill/>
          <a:ln w="44280">
            <a:solidFill>
              <a:srgbClr val="052e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Profilo </a:t>
            </a:r>
            <a:r>
              <a:rPr b="1" lang="it-IT" sz="1600" spc="-1" strike="noStrike">
                <a:solidFill>
                  <a:srgbClr val="800000"/>
                </a:solidFill>
                <a:latin typeface="Century Gothic"/>
              </a:rPr>
              <a:t>unitario </a:t>
            </a:r>
            <a:r>
              <a:rPr b="0" lang="it-IT" sz="1600" spc="-1" strike="noStrike">
                <a:solidFill>
                  <a:srgbClr val="000000"/>
                </a:solidFill>
                <a:latin typeface="Century Gothic"/>
              </a:rPr>
              <a:t>per ciascuno degli 11 indirizzi inteso come</a:t>
            </a:r>
            <a:r>
              <a:rPr b="1" lang="it-IT" sz="1600" spc="-1" strike="noStrike">
                <a:solidFill>
                  <a:srgbClr val="800000"/>
                </a:solidFill>
                <a:latin typeface="Century Gothic"/>
              </a:rPr>
              <a:t> standard formativo in uscita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, quale insieme compiuto e riconoscibile di </a:t>
            </a:r>
            <a:r>
              <a:rPr b="1" lang="it-IT" sz="1600" spc="-1" strike="noStrike">
                <a:solidFill>
                  <a:srgbClr val="800000"/>
                </a:solidFill>
                <a:latin typeface="Century Gothic"/>
              </a:rPr>
              <a:t>competenze</a:t>
            </a: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descritte</a:t>
            </a:r>
            <a:r>
              <a:rPr b="1" lang="it-IT" sz="16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secondo una prospettiva di validità e spendibilità nei </a:t>
            </a:r>
            <a:r>
              <a:rPr b="1" lang="it-IT" sz="1600" spc="-1" strike="noStrike">
                <a:solidFill>
                  <a:srgbClr val="800000"/>
                </a:solidFill>
                <a:latin typeface="Century Gothic"/>
              </a:rPr>
              <a:t>molteplici contesti lavorativi 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del settore   economico-professionale correl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ttangolo 6"/>
          <p:cNvSpPr/>
          <p:nvPr/>
        </p:nvSpPr>
        <p:spPr>
          <a:xfrm>
            <a:off x="2670120" y="4962600"/>
            <a:ext cx="1920960" cy="1554120"/>
          </a:xfrm>
          <a:prstGeom prst="rect">
            <a:avLst/>
          </a:prstGeom>
          <a:solidFill>
            <a:srgbClr val="edf7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Da </a:t>
            </a:r>
            <a:r>
              <a:rPr b="1" lang="it-IT" sz="1600" spc="-1" strike="noStrike">
                <a:solidFill>
                  <a:srgbClr val="800000"/>
                </a:solidFill>
                <a:latin typeface="Century Gothic"/>
              </a:rPr>
              <a:t>6 a 11 competenze riferite all’Area di indirizzo</a:t>
            </a:r>
            <a:r>
              <a:rPr b="0" lang="it-IT" sz="1600" spc="-1" strike="noStrike">
                <a:solidFill>
                  <a:srgbClr val="404040"/>
                </a:solidFill>
                <a:latin typeface="Century Gothic"/>
              </a:rPr>
              <a:t> in base ai profili dei diversi indirizz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ttangolo 7"/>
          <p:cNvSpPr/>
          <p:nvPr/>
        </p:nvSpPr>
        <p:spPr>
          <a:xfrm>
            <a:off x="4721760" y="3203640"/>
            <a:ext cx="180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Century Gothic"/>
              </a:rPr>
              <a:t>Correlati a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2" descr=""/>
          <p:cNvPicPr/>
          <p:nvPr/>
        </p:nvPicPr>
        <p:blipFill>
          <a:blip r:embed="rId2"/>
          <a:stretch/>
        </p:blipFill>
        <p:spPr>
          <a:xfrm>
            <a:off x="6156360" y="2146320"/>
            <a:ext cx="2638440" cy="9176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14" descr="D:\Users\mi02086\AppData\Local\Microsoft\Windows\Temporary Internet Files\Content.IE5\HEUUOYHH\red-arrow[1].jpg"/>
          <p:cNvPicPr/>
          <p:nvPr/>
        </p:nvPicPr>
        <p:blipFill>
          <a:blip r:embed="rId3"/>
          <a:stretch/>
        </p:blipFill>
        <p:spPr>
          <a:xfrm rot="18513600">
            <a:off x="4979520" y="2317320"/>
            <a:ext cx="1255680" cy="68112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15" descr=""/>
          <p:cNvPicPr/>
          <p:nvPr/>
        </p:nvPicPr>
        <p:blipFill>
          <a:blip r:embed="rId4"/>
          <a:stretch/>
        </p:blipFill>
        <p:spPr>
          <a:xfrm rot="3453000">
            <a:off x="4964400" y="3413880"/>
            <a:ext cx="1317600" cy="1414440"/>
          </a:xfrm>
          <a:prstGeom prst="rect">
            <a:avLst/>
          </a:prstGeom>
          <a:ln w="0">
            <a:noFill/>
          </a:ln>
        </p:spPr>
      </p:pic>
      <p:sp>
        <p:nvSpPr>
          <p:cNvPr id="689" name="Rettangolo 9"/>
          <p:cNvSpPr/>
          <p:nvPr/>
        </p:nvSpPr>
        <p:spPr>
          <a:xfrm>
            <a:off x="6259680" y="3870360"/>
            <a:ext cx="457200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Forte"/>
              </a:rPr>
              <a:t>Settor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Forte"/>
              </a:rPr>
              <a:t>economico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0000"/>
                </a:solidFill>
                <a:latin typeface="Forte"/>
              </a:rPr>
              <a:t>profession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Forte"/>
              </a:rPr>
              <a:t>decreto MLPS 30 giugno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0B18-0326-4F03-8783-3EA81A7EEE85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ttangolo 4"/>
          <p:cNvSpPr/>
          <p:nvPr/>
        </p:nvSpPr>
        <p:spPr>
          <a:xfrm>
            <a:off x="1942920" y="237960"/>
            <a:ext cx="728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GLI STRUMENTI PER LA PROGET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DEGLI INTERVENTI INTEGR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object 5"/>
          <p:cNvGrpSpPr/>
          <p:nvPr/>
        </p:nvGrpSpPr>
        <p:grpSpPr>
          <a:xfrm>
            <a:off x="426960" y="1152360"/>
            <a:ext cx="4114800" cy="1292400"/>
            <a:chOff x="426960" y="1152360"/>
            <a:chExt cx="4114800" cy="1292400"/>
          </a:xfrm>
        </p:grpSpPr>
        <p:pic>
          <p:nvPicPr>
            <p:cNvPr id="693" name="object 5" descr=""/>
            <p:cNvPicPr/>
            <p:nvPr/>
          </p:nvPicPr>
          <p:blipFill>
            <a:blip r:embed="rId1"/>
            <a:stretch/>
          </p:blipFill>
          <p:spPr>
            <a:xfrm>
              <a:off x="426960" y="1152360"/>
              <a:ext cx="4114800" cy="129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468360" y="1192320"/>
              <a:ext cx="3676680" cy="11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entury Gothic"/>
                  <a:ea typeface="ＭＳ Ｐゴシック"/>
                </a:rPr>
                <a:t>ISTRUZIONE E FORMAZIONE PROFESSION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Rettangolo 1"/>
          <p:cNvSpPr/>
          <p:nvPr/>
        </p:nvSpPr>
        <p:spPr>
          <a:xfrm>
            <a:off x="536400" y="2284560"/>
            <a:ext cx="3538800" cy="3774960"/>
          </a:xfrm>
          <a:prstGeom prst="rect">
            <a:avLst/>
          </a:prstGeom>
          <a:noFill/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entury Gothic"/>
              </a:rPr>
              <a:t>26 FIGURE DI OPERATORE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ALCUNE DECLINATE IN INDIRIZZI PER UN TOTALE DI 53 PERCORSI </a:t>
            </a:r>
            <a:r>
              <a:rPr b="1" i="1" lang="it-IT" sz="1800" spc="-1" strike="noStrike">
                <a:solidFill>
                  <a:srgbClr val="000099"/>
                </a:solidFill>
                <a:latin typeface="Century Gothic"/>
              </a:rPr>
              <a:t>(QUALIFICA TRIENN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entury Gothic"/>
              </a:rPr>
              <a:t>29 FIGURE DI TECNICO 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ALCUNE DECLINATE IN INDIRIZZI PER UN TOTALE DI 63 PERCO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i="1" lang="it-IT" sz="1800" spc="-1" strike="noStrike">
                <a:solidFill>
                  <a:srgbClr val="000099"/>
                </a:solidFill>
                <a:latin typeface="Century Gothic"/>
              </a:rPr>
              <a:t>(DIPLOMA QUADRIENNAL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ttangolo 6"/>
          <p:cNvSpPr/>
          <p:nvPr/>
        </p:nvSpPr>
        <p:spPr>
          <a:xfrm>
            <a:off x="5554800" y="2049480"/>
            <a:ext cx="3165480" cy="3934440"/>
          </a:xfrm>
          <a:prstGeom prst="rect">
            <a:avLst/>
          </a:prstGeom>
          <a:solidFill>
            <a:srgbClr val="fdf2d9"/>
          </a:solidFill>
          <a:ln w="44280">
            <a:solidFill>
              <a:srgbClr val="052e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P.E.Cu.P.  si realizza attraverso l’</a:t>
            </a: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acquisizione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delle competenze di base 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(incluse quelle dell’obbligo di istruzione) di carattere linguistico matematico scientifico tecnologico storico sociale ed econo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entury Gothic"/>
              </a:rPr>
              <a:t>delle competenze tecnico professionali </a:t>
            </a: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caratterizzanti la Figura </a:t>
            </a:r>
            <a:r>
              <a:rPr b="1" lang="it-IT" sz="1800" spc="-1" strike="noStrike">
                <a:solidFill>
                  <a:srgbClr val="ff0000"/>
                </a:solidFill>
                <a:latin typeface="Century Gothic"/>
              </a:rPr>
              <a:t>(</a:t>
            </a:r>
            <a:r>
              <a:rPr b="1" i="1" lang="it-IT" sz="1800" spc="-1" strike="noStrike">
                <a:solidFill>
                  <a:srgbClr val="ff0000"/>
                </a:solidFill>
                <a:latin typeface="Century Gothic"/>
              </a:rPr>
              <a:t>competenze ricorsive e connotative</a:t>
            </a:r>
            <a:r>
              <a:rPr b="1" lang="it-IT" sz="1800" spc="-1" strike="noStrike">
                <a:solidFill>
                  <a:srgbClr val="ff0000"/>
                </a:solidFill>
                <a:latin typeface="Century Gothic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7" name="Picture 17" descr=""/>
          <p:cNvPicPr/>
          <p:nvPr/>
        </p:nvPicPr>
        <p:blipFill>
          <a:blip r:embed="rId2"/>
          <a:stretch/>
        </p:blipFill>
        <p:spPr>
          <a:xfrm rot="19264200">
            <a:off x="4257360" y="3971520"/>
            <a:ext cx="979560" cy="7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9958-CE05-4F8A-BB2B-EFB6923ED720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ttangolo 4"/>
          <p:cNvSpPr/>
          <p:nvPr/>
        </p:nvSpPr>
        <p:spPr>
          <a:xfrm>
            <a:off x="984600" y="237960"/>
            <a:ext cx="80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Esempio: Manutenzione e assistenz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object 5"/>
          <p:cNvGrpSpPr/>
          <p:nvPr/>
        </p:nvGrpSpPr>
        <p:grpSpPr>
          <a:xfrm>
            <a:off x="231840" y="1042920"/>
            <a:ext cx="4108320" cy="993960"/>
            <a:chOff x="231840" y="1042920"/>
            <a:chExt cx="4108320" cy="993960"/>
          </a:xfrm>
        </p:grpSpPr>
        <p:pic>
          <p:nvPicPr>
            <p:cNvPr id="701" name="object 5" descr=""/>
            <p:cNvPicPr/>
            <p:nvPr/>
          </p:nvPicPr>
          <p:blipFill>
            <a:blip r:embed="rId1"/>
            <a:stretch/>
          </p:blipFill>
          <p:spPr>
            <a:xfrm>
              <a:off x="231840" y="1042920"/>
              <a:ext cx="410832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279360" y="1085760"/>
              <a:ext cx="3678120" cy="79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Century Gothic"/>
                  <a:ea typeface="ＭＳ Ｐゴシック"/>
                </a:rPr>
                <a:t>ISTRUZIONE PROFESSION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object 5"/>
          <p:cNvGrpSpPr/>
          <p:nvPr/>
        </p:nvGrpSpPr>
        <p:grpSpPr>
          <a:xfrm>
            <a:off x="5175360" y="1085760"/>
            <a:ext cx="4120920" cy="1297080"/>
            <a:chOff x="5175360" y="1085760"/>
            <a:chExt cx="4120920" cy="1297080"/>
          </a:xfrm>
        </p:grpSpPr>
        <p:pic>
          <p:nvPicPr>
            <p:cNvPr id="704" name="object 5" descr=""/>
            <p:cNvPicPr/>
            <p:nvPr/>
          </p:nvPicPr>
          <p:blipFill>
            <a:blip r:embed="rId2"/>
            <a:stretch/>
          </p:blipFill>
          <p:spPr>
            <a:xfrm>
              <a:off x="5175360" y="1085760"/>
              <a:ext cx="41209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5219640" y="1130400"/>
              <a:ext cx="3678120" cy="11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entury Gothic"/>
                  <a:ea typeface="ＭＳ Ｐゴシック"/>
                </a:rPr>
                <a:t>ISTRUZIONE E FORMAZIONE PROFESSION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Rettangolo 2"/>
          <p:cNvSpPr/>
          <p:nvPr/>
        </p:nvSpPr>
        <p:spPr>
          <a:xfrm>
            <a:off x="311040" y="2122560"/>
            <a:ext cx="4491000" cy="4447080"/>
          </a:xfrm>
          <a:prstGeom prst="rect">
            <a:avLst/>
          </a:prstGeom>
          <a:solidFill>
            <a:srgbClr val="b5ceed"/>
          </a:solidFill>
          <a:ln w="0">
            <a:noFill/>
          </a:ln>
          <a:effectLst>
            <a:outerShdw dist="37923" dir="4201013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99"/>
                </a:solidFill>
                <a:latin typeface="Arial"/>
              </a:rPr>
              <a:t>Referenziazione codici ATEC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 – ATTIVITA’ MANIFATTURIERE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C.33 Riparazione manutenzione ed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stallazione di macchine ed apparecchia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F – COSTRU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F.43.2 Installazione di impianti elettrici, idraulic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ed altri lavori di costruzione e install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G – COMMERCIO ALL’INGROSSO 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DETTAGLIO; RIPARAZIONE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AUTOVEICOLI E MOTOCI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G.45.2 Manutenzione e riparazioni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autovei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500" spc="-1" strike="noStrike">
                <a:solidFill>
                  <a:srgbClr val="000099"/>
                </a:solidFill>
                <a:latin typeface="Arial"/>
              </a:rPr>
              <a:t>Referenziazione Settori Economico-Professional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500" spc="-1" strike="noStrike">
                <a:solidFill>
                  <a:srgbClr val="000000"/>
                </a:solidFill>
                <a:latin typeface="Arial"/>
              </a:rPr>
              <a:t>MECCANICA, PRODUZIONE E MANUTENZIONE DI MACCHINE, IMPIANTISTIC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ttangolo 7"/>
          <p:cNvSpPr/>
          <p:nvPr/>
        </p:nvSpPr>
        <p:spPr>
          <a:xfrm>
            <a:off x="562680" y="1676520"/>
            <a:ext cx="31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entury Gothic"/>
              </a:rPr>
              <a:t>PROFILO UNI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ttangolo 12"/>
          <p:cNvSpPr/>
          <p:nvPr/>
        </p:nvSpPr>
        <p:spPr>
          <a:xfrm>
            <a:off x="5741640" y="1941480"/>
            <a:ext cx="2635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99"/>
                </a:solidFill>
                <a:latin typeface="Century Gothic"/>
              </a:rPr>
              <a:t>Figure correlabil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ttangolo 10"/>
          <p:cNvSpPr/>
          <p:nvPr/>
        </p:nvSpPr>
        <p:spPr>
          <a:xfrm>
            <a:off x="4994280" y="2492280"/>
            <a:ext cx="413064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99"/>
                </a:solidFill>
                <a:latin typeface="Century Gothic"/>
              </a:rPr>
              <a:t>Operatore alla riparazione dei veicoli a mot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Century Gothic"/>
              </a:rPr>
              <a:t>Tecnico meccatronico delle autoriparazio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99"/>
                </a:solidFill>
                <a:latin typeface="Century Gothic"/>
              </a:rPr>
              <a:t>Operatore elettr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Century Gothic"/>
              </a:rPr>
              <a:t>Tecnico elettr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99"/>
                </a:solidFill>
                <a:latin typeface="Century Gothic"/>
              </a:rPr>
              <a:t>Operatore di impianti termoidraulic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Century Gothic"/>
              </a:rPr>
              <a:t>Tecnico di impianti termin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000099"/>
                </a:solidFill>
                <a:latin typeface="Century Gothic"/>
              </a:rPr>
              <a:t>Operatore meccanic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ff0000"/>
                </a:solidFill>
                <a:latin typeface="Century Gothic"/>
              </a:rPr>
              <a:t>Tecnico per l’automazione industria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C66C-6CB7-4A29-A924-9669E6C8974D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ttangolo 4"/>
          <p:cNvSpPr/>
          <p:nvPr/>
        </p:nvSpPr>
        <p:spPr>
          <a:xfrm>
            <a:off x="984600" y="237960"/>
            <a:ext cx="80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Esempio: Manutenzione e assistenz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object 5"/>
          <p:cNvGrpSpPr/>
          <p:nvPr/>
        </p:nvGrpSpPr>
        <p:grpSpPr>
          <a:xfrm>
            <a:off x="212760" y="1006560"/>
            <a:ext cx="4084560" cy="1218960"/>
            <a:chOff x="212760" y="1006560"/>
            <a:chExt cx="4084560" cy="1218960"/>
          </a:xfrm>
        </p:grpSpPr>
        <p:pic>
          <p:nvPicPr>
            <p:cNvPr id="713" name="object 5" descr=""/>
            <p:cNvPicPr/>
            <p:nvPr/>
          </p:nvPicPr>
          <p:blipFill>
            <a:blip r:embed="rId1"/>
            <a:stretch/>
          </p:blipFill>
          <p:spPr>
            <a:xfrm>
              <a:off x="212760" y="1006560"/>
              <a:ext cx="40845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255600" y="1050840"/>
              <a:ext cx="367812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Century Gothic"/>
                  <a:ea typeface="ＭＳ Ｐゴシック"/>
                </a:rPr>
                <a:t>ISTRUZIONE E FORMAZIONE PROFESSIO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ttangolo 10"/>
          <p:cNvSpPr/>
          <p:nvPr/>
        </p:nvSpPr>
        <p:spPr>
          <a:xfrm>
            <a:off x="233280" y="2060640"/>
            <a:ext cx="8739360" cy="52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000099"/>
                </a:solidFill>
                <a:latin typeface="Century Gothic"/>
              </a:rPr>
              <a:t>- </a:t>
            </a:r>
            <a:r>
              <a:rPr b="1" lang="it-IT" sz="1600" spc="-1" strike="noStrike">
                <a:solidFill>
                  <a:srgbClr val="000099"/>
                </a:solidFill>
                <a:latin typeface="Century Gothic"/>
              </a:rPr>
              <a:t>Manutenzione e riparazione delle parti e dei sistemi meccanici ed elettromeccan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odice Ateco 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5.20.10 -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parazioni meccaniche di autoveicoli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/ 45.20.30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parazione di impianti elettrici e di alimentazione per autovei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P Istat (NUP) : 6.2.3.1.1 –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ccanici e motoristi e riparatori di veicoli a motore /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6.2.4.1.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lettra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Settore Economico-Professionale 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ccanica, produzione e manutenzione di macchine, impianti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Processo: 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Riparazione, manutenzione e demolizione di veicoli a motore ed assimila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Sequenza di processo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: Riparazione e manutenzione di veicoli a motore ed assimila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Aree di attività: 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7.59.173 Riparazione meccanica e manutenzione di veicoli a motore / 7.59.175 Installazione, manutenzione e riparazione di parti elettriche e/o elettroniche di veicoli a moto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entury Gothic"/>
              </a:rPr>
              <a:t>- Manutenzione e riparazione della carrozze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odice Ateco :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38.31.10 –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molizione di carcasse </a:t>
            </a: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/ 45.20.20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parazione di carrozzerie di autoveico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P Istat (NUP) : 6.2.1.8.1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Carrozzier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Settore Economico-Professionale 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ccanica, produzione e manutenzione di macchine, impianti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Processo: 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Riparazione, manutenzione e demolizione di veicoli a motore ed assimila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Sequenza di processo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: Riparazione e manutenzione di veicoli a motore ed assimilat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Aree di attività: 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7.59.176 Riparazione della carrozzeria di veicoli a motore / 7.59.177 Demolizione dei veicoli moto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entury Gothic"/>
              </a:rPr>
              <a:t>- Riparazione e sostituzione di pneuma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99"/>
                </a:solidFill>
                <a:latin typeface="Century Gothic"/>
              </a:rPr>
              <a:t>- Manutenzione e riparazione di macchine operatrici per l’agricoltura e l’ediliz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ttangolo 1"/>
          <p:cNvSpPr/>
          <p:nvPr/>
        </p:nvSpPr>
        <p:spPr>
          <a:xfrm>
            <a:off x="3652920" y="652320"/>
            <a:ext cx="534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Century Gothic"/>
              </a:rPr>
              <a:t>Operatore alla riparazione dei veicoli a motore (4 indirizzi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ED8D-F332-44F4-93D2-698AA9BD14C3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"/>
          <p:cNvGraphicFramePr/>
          <p:nvPr/>
        </p:nvGraphicFramePr>
        <p:xfrm>
          <a:off x="179280" y="195120"/>
          <a:ext cx="8856720" cy="666288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20732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Manutenzione e assistenza te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6 competenze profilo indirizzo uni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Operatore alla riparazione vei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3 competenze  ricors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2 competenze   comuni a tutti gli indiriz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3 competenza  connotativa per ogni in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Analizzare e interpretare schemi di apparati, impianti e dispositivi predisponendo le attiv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llaborare all’accoglienza del cliente e alla raccolta di informazioni per definire lo stato del veicolo a motore (COMPETENZA COMUN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Installare apparati e impianti, anche programmabili, secondo le specifiche tecniche e nel rispet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della normativa di sett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llaborare alla individuazione degli interventi da realizzare sul veicolo a motore e alla definizione del piano di lavoro (COMPETENZA COMUNE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  <a:tr h="14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seguire, le attività di assistenza tecnica, nonché di manutenzione ordinaria e straordinaria, degli apparati, degli impianti, anche programmabili e di veicoli a motore ed assimilati , individuando eventuali guasti o anomalie, ripristinandone la funzionalità e la conformità alle specifiche tecniche, alla normativa sulla sicurezza degli uten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 u="sng">
                          <a:solidFill>
                            <a:srgbClr val="000099"/>
                          </a:solidFill>
                          <a:uFillTx/>
                          <a:latin typeface="Century Gothic"/>
                        </a:rPr>
                        <a:t>Ind. Manutenzione riparazione parti mecc. elettrom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ffettuare interventi di riparazione e manutenzione sul sistema motopropuls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ffettuare interventi di riparazione e manutenzione sui sistemi di trazi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ffettuare interventi sui sistemi di sicurezza e assistenza alla guid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llaborare alle attività di verifica, regolazione e collaudo, provvedendo al rilascio della certificazione secondo la normativa in vig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 u="sng">
                          <a:solidFill>
                            <a:srgbClr val="000099"/>
                          </a:solidFill>
                          <a:uFillTx/>
                          <a:latin typeface="Century Gothic"/>
                        </a:rPr>
                        <a:t>Ind. Manutenzione e riparazione della carrozze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seguire la diagnosi tecnico/strumentale di carrozzeria, telaio cristalli e parti del veico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seguire lavorazioni di riparazione e manutenzione di carrozzeria, telaio cristalli e parti del veico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seguire lavorazioni di lucidatura, finizione e riconsegna del veicol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  <a:tr h="633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Gestire le scorte di magazzino, curando il processo di approvvigio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Operare in sicurezza nel rispetto delle norme della salute e sicurezza nei luoghi di lavoro e per la salvaguardia dell'amb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B35F-D137-4D16-B570-3E7D5D028AF8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ttangolo 4"/>
          <p:cNvSpPr/>
          <p:nvPr/>
        </p:nvSpPr>
        <p:spPr>
          <a:xfrm>
            <a:off x="984600" y="237960"/>
            <a:ext cx="80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Esempio: Manutenzione e assistenza tecn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object 5"/>
          <p:cNvGrpSpPr/>
          <p:nvPr/>
        </p:nvGrpSpPr>
        <p:grpSpPr>
          <a:xfrm>
            <a:off x="212760" y="1006560"/>
            <a:ext cx="4084560" cy="1218960"/>
            <a:chOff x="212760" y="1006560"/>
            <a:chExt cx="4084560" cy="1218960"/>
          </a:xfrm>
        </p:grpSpPr>
        <p:pic>
          <p:nvPicPr>
            <p:cNvPr id="722" name="object 5" descr=""/>
            <p:cNvPicPr/>
            <p:nvPr/>
          </p:nvPicPr>
          <p:blipFill>
            <a:blip r:embed="rId1"/>
            <a:stretch/>
          </p:blipFill>
          <p:spPr>
            <a:xfrm>
              <a:off x="212760" y="1006560"/>
              <a:ext cx="408456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55600" y="1050840"/>
              <a:ext cx="3678120" cy="73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Century Gothic"/>
                  <a:ea typeface="ＭＳ Ｐゴシック"/>
                </a:rPr>
                <a:t>ISTRUZIONE E FORMAZIONE PROFESSION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Rettangolo 10"/>
          <p:cNvSpPr/>
          <p:nvPr/>
        </p:nvSpPr>
        <p:spPr>
          <a:xfrm>
            <a:off x="233280" y="2060640"/>
            <a:ext cx="8739360" cy="42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odice Ateco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3.22.01 -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stallazione di impianti idraulici, di riscaldamento e di condizionamento dell’aria in edifici o in altre opere in costr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3.22.02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– Installazione di impianti per la distribuzione del g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3.22.03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– Installazione di impianti di spegnimento antincen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3.22.04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– Installazione di impianti di depurazione per piscine inclusa manutenzione e ripa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43.22.05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– Installazione di impianti di irrigazione per giardini inclusa manutenzione e ripa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CP Istat (NUP)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6.1.3.6.1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draulici nelle costruzioni civ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6.1.3.6.2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Installatori di impianti termici nelle costruzioni civ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6.2.3.5.1 – </a:t>
            </a:r>
            <a:r>
              <a:rPr b="0" i="1" lang="it-IT" sz="1400" spc="-1" strike="noStrike">
                <a:solidFill>
                  <a:srgbClr val="000000"/>
                </a:solidFill>
                <a:latin typeface="Arial"/>
              </a:rPr>
              <a:t>Riparatori e manutentori di apparecchi e impianti termoidraulici industri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Arial"/>
              </a:rPr>
              <a:t>Settore Economico-Professionale :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ccanica, produzione e manutenzione di macchine, impiantis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Processo: 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Installazione e manutenzione di impianti elettrici, termoidraulici, termosanitar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Sequenza di processo</a:t>
            </a: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: Installazione e manutenzione di impianti termoidraulici e simil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 u="sng">
                <a:solidFill>
                  <a:srgbClr val="000000"/>
                </a:solidFill>
                <a:uFillTx/>
                <a:latin typeface="Arial"/>
              </a:rPr>
              <a:t>Aree di attività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7.57.168 Installazione / manutenzione di impianti civili idro-tgermo-sanitari e sistemi di scaric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300" spc="-1" strike="noStrike">
                <a:solidFill>
                  <a:srgbClr val="000000"/>
                </a:solidFill>
                <a:latin typeface="Arial"/>
              </a:rPr>
              <a:t>7.57.962 Installazione / manutenzione di impianti tecnologici di condizionamento, raffrescamento, climatizzazione con trattamento ari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ttangolo 1"/>
          <p:cNvSpPr/>
          <p:nvPr/>
        </p:nvSpPr>
        <p:spPr>
          <a:xfrm>
            <a:off x="3652920" y="652320"/>
            <a:ext cx="534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200" spc="-1" strike="noStrike">
                <a:solidFill>
                  <a:srgbClr val="ffff00"/>
                </a:solidFill>
                <a:latin typeface="Century Gothic"/>
              </a:rPr>
              <a:t>Operatore di impianti termoidraul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0F30-DF37-4DFC-B338-742F612CDFBD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7" name=""/>
          <p:cNvGraphicFramePr/>
          <p:nvPr/>
        </p:nvGraphicFramePr>
        <p:xfrm>
          <a:off x="179280" y="195120"/>
          <a:ext cx="8856720" cy="6512040"/>
        </p:xfrm>
        <a:graphic>
          <a:graphicData uri="http://schemas.openxmlformats.org/drawingml/2006/table">
            <a:tbl>
              <a:tblPr/>
              <a:tblGrid>
                <a:gridCol w="4429080"/>
                <a:gridCol w="4427640"/>
              </a:tblGrid>
              <a:tr h="131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Manutenzione e assistenza tecn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Candara"/>
                        </a:rPr>
                        <a:t>6 competenze profilo indirizzo unita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Operatore di impianti termoidrauli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3 competenze ricorsiv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00"/>
                          </a:solidFill>
                          <a:latin typeface="Candara"/>
                        </a:rPr>
                        <a:t>4 competenze   connotative la fig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84d3"/>
                    </a:solidFill>
                  </a:tcPr>
                </a:tc>
              </a:tr>
              <a:tr h="88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Analizzare e interpretare schemi di apparati, impianti e dispositivi predisponendo le attivit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ffettuare la posa in opera di impianti civili idro-termo-sanitari sulla base delle indicazioni contenute nel progetto esecutivo e nel rispetto della normativa di sett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Installare apparati e impianti, anche programmabili, secondo le specifiche tecniche e nel rispet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della normativa di sett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ffettuare la posa in opera di impianti civili per il condizionamento, la climatizzazione e il trattamento dell’ar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  <a:tr h="147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seguire, le attività di assistenza tecnica, nonché di manutenzione ordinaria e straordinaria, degli apparati, degli impianti, anche programmabili e di veicoli a motore ed assimilati , individuando eventuali guasti o anomalie, ripristinandone la funzionalità e la conformità alle specifiche tecniche, alla normativa sulla sicurezza degli uten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llaudare gli impianti installati nel rispetto degli standard di efficienza e sicurezz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Collaborare alle attività di verifica, regolazione e collaudo, provvedendo al rilascio della certificazione secondo la normativa in vigo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Effettuare interventi di manutenzione ordinaria e straordinaria, necessari per il rilascio della documentazione di legge e per mantenere gli impianti in condizione di sicurezza e efficienza in eserciz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  <a:tr h="48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Gestire le scorte di magazzino, curando il processo di approvvigiona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9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99"/>
                          </a:solidFill>
                          <a:latin typeface="Century Gothic"/>
                        </a:rPr>
                        <a:t>Operare in sicurezza nel rispetto delle norme della salute e sicurezza nei luoghi di lavoro e per la salvaguardia dell'amb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2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Segnaposto numero diapositiva 1"/>
          <p:cNvSpPr/>
          <p:nvPr/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BCE0-4080-4146-8243-602C6C302DDD}" type="slidenum">
              <a:rPr b="0" lang="it-IT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ttangolo 4"/>
          <p:cNvSpPr/>
          <p:nvPr/>
        </p:nvSpPr>
        <p:spPr>
          <a:xfrm>
            <a:off x="1392120" y="237960"/>
            <a:ext cx="774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COMPETENZE RICORSIVE COMUNI A TUT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LE FIG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object 5"/>
          <p:cNvGrpSpPr/>
          <p:nvPr/>
        </p:nvGrpSpPr>
        <p:grpSpPr>
          <a:xfrm>
            <a:off x="268200" y="1152360"/>
            <a:ext cx="4121280" cy="1298880"/>
            <a:chOff x="268200" y="1152360"/>
            <a:chExt cx="4121280" cy="1298880"/>
          </a:xfrm>
        </p:grpSpPr>
        <p:pic>
          <p:nvPicPr>
            <p:cNvPr id="731" name="object 5" descr=""/>
            <p:cNvPicPr/>
            <p:nvPr/>
          </p:nvPicPr>
          <p:blipFill>
            <a:blip r:embed="rId1"/>
            <a:stretch/>
          </p:blipFill>
          <p:spPr>
            <a:xfrm>
              <a:off x="268200" y="1152360"/>
              <a:ext cx="412128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312840" y="1197000"/>
              <a:ext cx="3678120" cy="110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000" rIns="144000" tIns="93600" bIns="93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0000"/>
                  </a:solidFill>
                  <a:latin typeface="Century Gothic"/>
                  <a:ea typeface="ＭＳ Ｐゴシック"/>
                </a:rPr>
                <a:t>ISTRUZIONE E FORMAZIONE PROFESSIONA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3" name="Rettangolo 5"/>
          <p:cNvSpPr/>
          <p:nvPr/>
        </p:nvSpPr>
        <p:spPr>
          <a:xfrm>
            <a:off x="439560" y="2276640"/>
            <a:ext cx="8502840" cy="3733560"/>
          </a:xfrm>
          <a:prstGeom prst="rect">
            <a:avLst/>
          </a:prstGeom>
          <a:noFill/>
          <a:ln w="44280">
            <a:solidFill>
              <a:srgbClr val="052e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Definire e pianificare fasi delle operazioni da compiere, nel rispetto della normativa sulla sicurezza, sulla base delle istruzioni ricevute, della documentazione di appoggio (schemi disegni procedure distinte materiali) e del sistema di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Approntare, monitorare e curare la manutenzione ordinaria di strumenti, utensili, attrezzature e macchinari necessari alle diverse fasi di lavorazione/servizio sulla base della tipologia di materiali da impiegare, delle indicazioni/procedure previste, del risultato att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entury Gothic"/>
              </a:rPr>
              <a:t>Operare in sicurezza e nel rispetto delle norme di igiene e di salvaguardia ambientale, identificando e prevenendo situazioni di rischio per sé, per altri e per l’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CasellaDiTesto 1"/>
          <p:cNvSpPr/>
          <p:nvPr/>
        </p:nvSpPr>
        <p:spPr>
          <a:xfrm>
            <a:off x="463680" y="6230880"/>
            <a:ext cx="82850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entury Gothic"/>
              </a:rPr>
              <a:t>Le competenze ricorsive sono declinate in abilità e conosce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Century Gothic"/>
              </a:rPr>
              <a:t>anch’esse uniche per tutte le figure                                                   </a:t>
            </a:r>
            <a:r>
              <a:rPr b="0" lang="it-IT" sz="1800" spc="-1" strike="noStrike" u="sng">
                <a:solidFill>
                  <a:srgbClr val="0080ff"/>
                </a:solidFill>
                <a:uFillTx/>
                <a:latin typeface="Century Gothic"/>
                <a:hlinkClick r:id="rId2" action="ppaction://hlinksldjump"/>
              </a:rPr>
              <a:t>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5T18:16:46Z</dcterms:created>
  <dc:creator>Daniela</dc:creator>
  <dc:description/>
  <dc:language>en-US</dc:language>
  <cp:lastModifiedBy>Biagio</cp:lastModifiedBy>
  <cp:lastPrinted>2019-03-13T11:09:12Z</cp:lastPrinted>
  <dcterms:modified xsi:type="dcterms:W3CDTF">2020-01-09T09:07:07Z</dcterms:modified>
  <cp:revision>1143</cp:revision>
  <dc:subject/>
  <dc:title>Gli Istituti Tecnici Superiori  per lo sviluppo del Paese</dc:title>
</cp:coreProperties>
</file>